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E841-CDB8-4B7C-B8EA-DF977F8CB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CB45-3457-497E-91D9-29FFB5375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E0943-057B-4047-B9A2-51402AEF5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88FF7-B631-4BB5-963C-269BF8D0A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FD8B8-043C-41C1-87C1-7BEE15E81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22668-4493-4C3B-AC98-C85795199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7168C-C914-4907-90D8-088692A51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4CFE0-8F66-4349-B9FF-C3D592880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62A15-38AE-4BCC-B511-2A6D302F3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EB6B4-A5EB-45CB-B1A7-B1C69C96C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FC825-90E8-43CB-9B02-241B5BCC9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9826A-7EC3-4CAC-BBE8-A586CF14A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01A8-2C69-489D-B138-2D6413CE6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399C-51A6-4BB8-BAC6-A9EC904EC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DF6C6-C9C7-4B72-A15C-4105E2412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00E2E4-A8C9-4ABB-905D-69EAF6C11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FB20C-770E-4507-B865-C14A6A193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84985-3CB3-4F06-A321-FC8A08DC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6832-6E47-4C1C-BB23-73DF43B7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98B38-EF44-4FCC-9B1A-3EF911FC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D02CA-1336-40FE-8BE8-183591700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D0EB-9FE3-426E-B021-1ECB21E44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B862-E5F6-428E-940B-E066F721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5A380-9555-4ACC-AE00-7B0C6F526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E211-DDF3-43C1-B341-FB62A82CAD2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F9D8-F176-454F-BE9B-10713D7FBC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C22D74C2-DA3B-4FB0-AEED-1D8E382FD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2286C40-AABA-4C8D-AC5A-EF8818ABF0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81F5E504-4BA3-4FD8-A1D8-28A4C9465A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7CAA2386-011E-44DF-AD45-D38CDE902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0741468-FF9D-49E3-B0D9-DB9D80B41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CABD643E-CDC0-429B-8881-BB91A9997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5D7743AF-05AC-4A87-B540-DA55740D9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0C1D49BB-2BD3-4120-A7E3-4C013D3A1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8ED393B-D7DF-4FD6-9881-58A92F6010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E4CBF77-2C29-4517-B2DB-2809D442A6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461B2EB5-094D-4B98-956E-830CC9F59E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63B0F3DD-59DA-4FE9-8034-8C7315292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543A65CE-F26B-44AF-826B-0FA0E5D66A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652F92D6-5F0E-49CF-8BFF-3AA3A84B31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FD1FF9AE-23DA-4A54-A02F-70E6A6AE23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984B50F-ED38-478B-B18B-FA7892205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6889CC3-CC3D-4D95-965E-7B150AC2FA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4B0DCF0-6438-44C9-A345-B71DCBC670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604B67B9-0683-4D42-8C70-E1BA279D9A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A5C4AE37-8143-4C43-8E10-74EC63F48B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A21C129-D196-4D50-AEBA-3756A2DE36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605520" y="2242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7 </a:t>
            </a:r>
            <a:br>
              <a:rPr sz="3200"/>
            </a:br>
            <a:r>
              <a:rPr b="1" lang="en-US" sz="3200" spc="-1" strike="noStrike">
                <a:solidFill>
                  <a:srgbClr val="006666"/>
                </a:solidFill>
                <a:latin typeface="Arial"/>
              </a:rPr>
              <a:t>What is authentic assessm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2E0F3C4E-BC01-4EEC-8B05-31C252C16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A39E3CE2-1464-4926-9264-0E912450E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558360" y="406080"/>
            <a:ext cx="7797960" cy="13971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0-13 </a:t>
            </a:r>
            <a:br>
              <a:rPr sz="3200"/>
            </a:br>
            <a:r>
              <a:rPr b="1" lang="en-US" sz="3200" spc="-1" strike="noStrike">
                <a:solidFill>
                  <a:srgbClr val="006666"/>
                </a:solidFill>
                <a:latin typeface="Arial"/>
              </a:rPr>
              <a:t>How are Analytic and Holistic rubrics differ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DD244417-C0AF-4D95-9240-4EA71EC28C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491400" y="339480"/>
            <a:ext cx="777924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5 -19</a:t>
            </a:r>
            <a:br>
              <a:rPr sz="3200"/>
            </a:br>
            <a:r>
              <a:rPr b="1" lang="en-US" sz="3200" spc="-1" strike="noStrike">
                <a:solidFill>
                  <a:srgbClr val="006666"/>
                </a:solidFill>
                <a:latin typeface="Arial"/>
              </a:rPr>
              <a:t>How do we use Authentic Assessment in our classrooms?</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49582BE8-3EBB-42B2-B47B-FB99EB00D9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7578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21-23 </a:t>
            </a:r>
            <a:br>
              <a:rPr sz="3200"/>
            </a:br>
            <a:r>
              <a:rPr b="1" lang="en-US" sz="3200" spc="-1" strike="noStrike">
                <a:solidFill>
                  <a:srgbClr val="006666"/>
                </a:solidFill>
                <a:latin typeface="Arial"/>
              </a:rPr>
              <a:t>What is self-regulated learning?</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56FCCE53-E40C-42BC-AD59-9A67F91D0C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658800" y="353880"/>
            <a:ext cx="7673400" cy="1729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s 25 -27</a:t>
            </a:r>
            <a:br>
              <a:rPr sz="3600"/>
            </a:br>
            <a:r>
              <a:rPr b="1" lang="en-US" sz="3600" spc="-1" strike="noStrike">
                <a:solidFill>
                  <a:srgbClr val="006666"/>
                </a:solidFill>
                <a:latin typeface="Arial"/>
              </a:rPr>
              <a:t>What is the relationship between these three concepts?</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6C238569-9951-4C48-8A4E-980F1AC02A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339480" y="110880"/>
            <a:ext cx="838872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a:t>
            </a:r>
            <a:br>
              <a:rPr sz="3200"/>
            </a:br>
            <a:r>
              <a:rPr b="1" lang="en-US" sz="3200" spc="-1" strike="noStrike">
                <a:solidFill>
                  <a:srgbClr val="006666"/>
                </a:solidFill>
                <a:latin typeface="Arial"/>
              </a:rPr>
              <a:t>How do these three concepts fit into the Gradual Release of Responsibility?</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9C6E46C7-455C-4DE8-8C05-E1F0FDC750D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8066A19-68BA-425E-B745-AE87BA52EC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D1BBC474-5601-4814-8182-6F38C181C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F797DF38-E8BC-4B97-A816-5B64F3CC2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0F5C020D-77E2-4BF9-BBD4-6A2B2C12E8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C63070F-E216-4639-AFCA-8659713B7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C4B775C-E42A-4819-B46A-430CEF2AAE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Malden Public Schools</cp:lastModifiedBy>
  <dcterms:modified xsi:type="dcterms:W3CDTF">2010-01-15T20:06:47Z</dcterms:modified>
  <cp:revision>12</cp:revision>
  <dc:subject/>
  <dc:title>Authentic Assessment</dc:title>
</cp:coreProperties>
</file>