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8B1DB-DC2D-40F9-8FE8-C44AD85F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6278C-5E37-4104-98BB-1D93C2A2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123AB-C1F9-446E-8200-EEDF15351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A7565-6385-4D17-8D4C-A23442882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59C54-15AB-4940-9D3C-3BEEADE84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43EE9-F61D-45A8-8199-978A0FFF7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BF7AC-BAE7-4293-8233-7D17D2D43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C7D69-35FB-4541-9FCB-4870B4482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E6938-CEB7-4147-9FCC-D38D319F6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07F2A-978A-4CD4-8CA6-20EF205C5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46B27-3F34-46D3-931D-303109506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38885-2C68-4E78-BD48-3D0614135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51B4B-EC18-475A-B110-FA5E1A0B0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01EEB-DC17-4732-87E0-401F1C215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B3AF3-1F6C-401D-ADFF-4E4F969FC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BB172-4DCA-4593-A697-79DD728AA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5DCA4-3A1D-45CF-BF45-8F9464745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DEAA-ED7A-4A74-A115-1DF6A1391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3855A-703E-47E8-86F5-807441AE5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74DD-6E1F-4AC5-A34A-10AD0B5DE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1A96-F73E-4503-928E-B3EA6DBB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8B19-6E5E-4C59-8E63-371BBC90B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8D50-6C91-4DBB-92B2-CE3EF11E9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3A3E-30C9-428C-9CBA-17B7E3479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D9DC-F349-44A2-9F55-6DA46546388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C5F5-5E95-4D11-B2E9-126C2D6F790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A5CAE014-0034-4EF6-A18D-4D604632A8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6724B83E-54F5-4442-9464-19C305D365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41B0B7B0-F105-4177-A63B-0C9625F11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8326866D-A62C-40DF-B6B0-F864439479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FB71D9D0-E836-47A3-8035-84B5739A8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60174A70-6333-4B68-AD6F-1A7F9546C2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AE981974-D040-47FE-B931-6BAFA82605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3E36A964-9CE6-4914-A1CB-92C17CE72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7E749E6-C461-42E1-8256-D9021ED917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3FEB942-0A46-4B64-BAF6-D5E712C10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88D2B71-88AE-4CD3-ADB1-45F587550A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8484F3E0-D606-47E9-85FE-E0ECE33195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B976CF0-8ADB-4A59-856F-C61A28E58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71888B18-F765-4A6F-8900-48C7A76B4C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2DD78A7-F002-4ECF-A9A0-EF294BA4B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981CEDC5-5F8A-47CB-BC13-95B7094F6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85FF5F28-37E8-418B-84C6-AE435D4B3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C6C05678-3707-4C20-BBB8-6649F5FEA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DC9862E6-F81A-480C-BA91-531C61462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4AC1DAE-2B16-4D3E-8098-DE97572EC5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37F4C1D3-039F-423E-9294-F724DA73DC09}"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64F15C92-8646-4B17-B3F0-31C1F75519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99E11F1-BBBB-47A5-9107-BFF963920D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49BC1A8E-B84F-42BB-A6B1-C0ED6129EA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38498C23-1B65-443D-8FF1-805203449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1698D0C4-009C-4A58-8AEE-CF9DFB72F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E468EAE-06A5-4793-9F7F-3C3C7B4162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41EDA3C-37B8-4A85-B17C-3798241404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CentralOffice</cp:lastModifiedBy>
  <dcterms:modified xsi:type="dcterms:W3CDTF">2010-01-14T21:55:42Z</dcterms:modified>
  <cp:revision>11</cp:revision>
  <dc:subject/>
  <dc:title>Authentic Assessment</dc:title>
</cp:coreProperties>
</file>