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16C-66F4-4868-8A36-1C8421F5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FC3-2B1A-4683-B5FE-78E1378B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379-3AE9-41FB-9A8C-1FA42622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0FC9-915F-4A30-852E-79A5FF0A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5816-999A-4758-B5F9-567C24A3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E7AC-F01F-49A1-81CF-17CF9D3A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9D95-7F74-417C-A088-C40E76F4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E86C-633B-4F08-80A4-7C3C33EC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A7B3-4054-43F6-AD90-1066C42D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236-FDF9-441D-969B-2F124BB5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75A-1973-41A7-98EE-5ADF6835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FA03-D7BC-43C1-89A0-7E0F4571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D5A1-E2E3-47E6-9262-75AF9E69F10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ECF8-7729-4B2E-81B1-DCF617A08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8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9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0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1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2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4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33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Lite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889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Less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241200"/>
            <a:ext cx="228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33"/>
                </a:solidFill>
                <a:latin typeface="Times New Roman"/>
              </a:rPr>
              <a:t>Comprehension  Symbo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-2556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33"/>
                </a:solidFill>
                <a:uFillTx/>
                <a:latin typeface="Times New Roman"/>
              </a:rPr>
              <a:t>Bef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33"/>
                </a:solidFill>
                <a:uFillTx/>
                <a:latin typeface="Times New Roman"/>
              </a:rPr>
              <a:t>Du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33"/>
                </a:solidFill>
                <a:uFillTx/>
                <a:latin typeface="Times New Roman"/>
              </a:rPr>
              <a:t>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Times New Roman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91520" y="355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5"/>
          <a:stretch/>
        </p:blipFill>
        <p:spPr>
          <a:xfrm>
            <a:off x="8686800" y="0"/>
            <a:ext cx="457200" cy="2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1143720"/>
            <a:ext cx="8153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ummarize key points so fa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dd your own thought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se clarifying ques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975600"/>
            <a:ext cx="807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ree-Minute Paus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792720"/>
            <a:ext cx="8839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first activity of every lesson to activate, assess and build students’ background knowledg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152316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a Do Now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7624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last activity of every lesson to summarize and assess what has been learned and accomplished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 rot="967200">
            <a:off x="5366880" y="4336920"/>
            <a:ext cx="3124440" cy="129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3, 2,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4419720"/>
            <a:ext cx="312408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, 2,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1751760"/>
            <a:ext cx="624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Closur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29528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t is employed before a lesson takes place, yet it is responsible for how the lesson looks and s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13712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lesson objectiv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837720"/>
            <a:ext cx="8153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will you differentiate work given students’ varying strengths &amp; nee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will you do to assess students’ progress, help them make mid-course corrections, and hold them accountable for good wo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27980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uided &amp; Independen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Frayer Model Template"/>
          <p:cNvPicPr/>
          <p:nvPr/>
        </p:nvPicPr>
        <p:blipFill>
          <a:blip r:embed="rId1"/>
          <a:stretch/>
        </p:blipFill>
        <p:spPr>
          <a:xfrm>
            <a:off x="990720" y="1219320"/>
            <a:ext cx="7467480" cy="3719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1447200"/>
            <a:ext cx="74674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roduce new conte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(e.g., a reading, present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observation, probl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del new skills, strategies o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13705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Direct Instru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33920" y="1447920"/>
            <a:ext cx="1981080" cy="2895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9044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Don’t Understand thi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76720" y="1600200"/>
            <a:ext cx="27432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17514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Main Ide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1143000"/>
            <a:ext cx="3657600" cy="2971800"/>
          </a:xfrm>
          <a:prstGeom prst="star5">
            <a:avLst/>
          </a:prstGeom>
          <a:solidFill>
            <a:srgbClr val="66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23880" y="182844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Connecti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71600" y="1035720"/>
            <a:ext cx="6248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ff"/>
                </a:solidFill>
                <a:latin typeface="Times New Roman"/>
              </a:rPr>
              <a:t>+ +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06596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supporting detail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1523160"/>
            <a:ext cx="573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the Frayer Model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15544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lps students to monitor comprehension as they re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44684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purpose for cod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71600" y="-36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tent Response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31253" t="25004" r="30470" b="12502"/>
          <a:stretch/>
        </p:blipFill>
        <p:spPr>
          <a:xfrm>
            <a:off x="1981080" y="685800"/>
            <a:ext cx="4729320" cy="5791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11422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imes New Roman"/>
              </a:rPr>
              <a:t>DURING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Reading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71600" y="152316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Summariz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1422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imes New Roman"/>
              </a:rPr>
              <a:t>AFTER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Reading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3880" y="1904760"/>
            <a:ext cx="624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Brainst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1422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imes New Roman"/>
              </a:rPr>
              <a:t>BEFORE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Reading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23880" y="167544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Role Pla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1422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imes New Roman"/>
              </a:rPr>
              <a:t>AFTER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Reading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OrangeOmerFishBowl.gif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015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59876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onstruct a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raphic Organiz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761040"/>
            <a:ext cx="8001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imes New Roman"/>
              </a:rPr>
              <a:t>BEFO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imes New Roman"/>
              </a:rPr>
              <a:t>DUR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imes New Roman"/>
              </a:rPr>
              <a:t>AF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Reading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5834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220932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MIND MA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38080" y="1066680"/>
          <a:ext cx="6857280" cy="15203160"/>
        </p:xfrm>
        <a:graphic>
          <a:graphicData uri="http://schemas.openxmlformats.org/drawingml/2006/table">
            <a:tbl>
              <a:tblPr/>
              <a:tblGrid>
                <a:gridCol w="6857280"/>
              </a:tblGrid>
              <a:tr h="15203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9144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 dis/agree with __ because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 like/dislike __ because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__ is/was important because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__ made me think about __ because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__ has changed my thinking because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121896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entence Ste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06596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 . . is more strongly and consistently related to achievement than any other teaching behavior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90720" y="114300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cademic Feedback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Mr. Max and Mr. Tivnan, Planning a Lesson"/>
          <p:cNvPicPr/>
          <p:nvPr/>
        </p:nvPicPr>
        <p:blipFill>
          <a:blip r:embed="rId1"/>
          <a:stretch/>
        </p:blipFill>
        <p:spPr>
          <a:xfrm>
            <a:off x="685800" y="457200"/>
            <a:ext cx="7908840" cy="5932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144756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ink/Write/Pair/Shar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20570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Fishbowl Discuss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28195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son #1 will begin by reading one of his/her selected passages. S/he will mak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no commen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on the passage at that tim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533160"/>
            <a:ext cx="7391520" cy="173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icipants are asked to read the article and to underline key passages as they are reading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0880" y="114300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ave the Last W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1220040"/>
            <a:ext cx="624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odel the chosen thinking tasks by stopping to articulate what’s going on in your hea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7920" y="198072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hat is Think Alou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152388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 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 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1522080"/>
            <a:ext cx="624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hat is Gradual Release of Responsibilit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Malden Public Schools</cp:lastModifiedBy>
  <dcterms:modified xsi:type="dcterms:W3CDTF">2010-02-05T12:54:01Z</dcterms:modified>
  <cp:revision>72</cp:revision>
  <dc:subject/>
  <dc:title>Blank Jeopardy</dc:title>
</cp:coreProperties>
</file>