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722B-E778-4F60-AE56-FDF4387C1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69FE-6416-4BED-8033-9A4C596B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B42C-1475-4706-B14B-D8CD95D2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AF40-3D98-4B05-8E0F-F4FF19279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501C-7104-4C95-B976-9829EAF7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2CB4-B50E-4147-8B02-0710FDAA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AC64-BD9E-4482-8E55-791075C0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79AE-9CDF-4CA9-A127-9352CE7D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5EAB-D6FA-4993-8124-2444B5B5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E20F-EF24-4536-9021-71A4D2B6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FB5E-EA34-4F1D-A908-C02129F8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404A-04FB-4EBA-9401-35A18D01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0C88-6435-498E-B781-CCF5191B278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70EF-0814-4415-AA71-6A6616D3D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40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6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8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9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0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1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2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3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4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33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Lite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889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Lesson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241200"/>
            <a:ext cx="2286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ff33"/>
                </a:solidFill>
                <a:latin typeface="Times New Roman"/>
              </a:rPr>
              <a:t>Comprehension  Symbol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62720" y="-2556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ff33"/>
                </a:solidFill>
                <a:uFillTx/>
                <a:latin typeface="Times New Roman"/>
              </a:rPr>
              <a:t>Befo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ff33"/>
                </a:solidFill>
                <a:uFillTx/>
                <a:latin typeface="Times New Roman"/>
              </a:rPr>
              <a:t>Du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ff33"/>
                </a:solidFill>
                <a:uFillTx/>
                <a:latin typeface="Times New Roman"/>
              </a:rPr>
              <a:t>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Times New Roman"/>
              </a:rPr>
              <a:t>Re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91520" y="3556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Times New Roman"/>
              </a:rPr>
              <a:t>Miscellan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5"/>
          <a:stretch/>
        </p:blipFill>
        <p:spPr>
          <a:xfrm>
            <a:off x="8686800" y="0"/>
            <a:ext cx="457200" cy="25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2120" y="1143720"/>
            <a:ext cx="8153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ummarize key points so fa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dd your own thought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se clarifying ques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975600"/>
            <a:ext cx="8076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ree-Minute Paus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792720"/>
            <a:ext cx="88390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first activity of every lesson to activate, assess and build students’ background knowledg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43000" y="152316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hat is a Do Now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76248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last activity of every lesson to summarize and assess what has been learned and accomplished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 rot="967200">
            <a:off x="5366880" y="4336920"/>
            <a:ext cx="3124440" cy="1295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3, 2, 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4419720"/>
            <a:ext cx="3124080" cy="12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3, 2, 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7920" y="1751760"/>
            <a:ext cx="624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hat is Closur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1295280"/>
            <a:ext cx="7010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t is employed before a lesson takes place, yet it is responsible for how the lesson looks and so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09480" y="13712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a lesson objectiv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837720"/>
            <a:ext cx="8153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w will you differentiate work given students’ varying strengths &amp; need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will you do to assess students’ progress, help them make mid-course corrections, and hold them accountable for good wor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1279800"/>
            <a:ext cx="769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uided &amp; Independent 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Frayer Model Template"/>
          <p:cNvPicPr/>
          <p:nvPr/>
        </p:nvPicPr>
        <p:blipFill>
          <a:blip r:embed="rId1"/>
          <a:stretch/>
        </p:blipFill>
        <p:spPr>
          <a:xfrm>
            <a:off x="990720" y="1219320"/>
            <a:ext cx="7467480" cy="3719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1447200"/>
            <a:ext cx="74674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roduce new conten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(e.g., a reading, presentatio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observation, proble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odel new skills, strategies or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ced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14400" y="137052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Direct Instru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33920" y="1447920"/>
            <a:ext cx="1981080" cy="2895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190440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Don’t Understand thi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76720" y="1600200"/>
            <a:ext cx="27432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62120" y="175140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Main Ide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1143000"/>
            <a:ext cx="3657600" cy="2971800"/>
          </a:xfrm>
          <a:prstGeom prst="star5">
            <a:avLst/>
          </a:prstGeom>
          <a:solidFill>
            <a:srgbClr val="66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523880" y="182844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Connectio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371600" y="1035720"/>
            <a:ext cx="6248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ff"/>
                </a:solidFill>
                <a:latin typeface="Times New Roman"/>
              </a:rPr>
              <a:t>+ +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065960"/>
            <a:ext cx="777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supporting detail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00200" y="1523160"/>
            <a:ext cx="573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hat is the Frayer Model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155448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elps students to monitor comprehension as they rea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144684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the purpose for cod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371600" y="-36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tent Response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31253" t="25004" r="30470" b="12502"/>
          <a:stretch/>
        </p:blipFill>
        <p:spPr>
          <a:xfrm>
            <a:off x="1981080" y="685800"/>
            <a:ext cx="4729320" cy="5791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57200" y="11422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33"/>
                </a:solidFill>
                <a:latin typeface="Times New Roman"/>
              </a:rPr>
              <a:t>DURING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Reading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371600" y="152316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Summariz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11422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33"/>
                </a:solidFill>
                <a:latin typeface="Times New Roman"/>
              </a:rPr>
              <a:t>AFTER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Reading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523880" y="1904760"/>
            <a:ext cx="6248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Brainstor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1422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33"/>
                </a:solidFill>
                <a:latin typeface="Times New Roman"/>
              </a:rPr>
              <a:t>BEFORE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Reading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523880" y="167544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Role Pla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11422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33"/>
                </a:solidFill>
                <a:latin typeface="Times New Roman"/>
              </a:rPr>
              <a:t>AFTER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Reading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OrangeOmerFishBowl.gif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015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159876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Construct a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Graphic Organiz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761040"/>
            <a:ext cx="8001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33"/>
                </a:solidFill>
                <a:latin typeface="Times New Roman"/>
              </a:rPr>
              <a:t>BEFO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33"/>
                </a:solidFill>
                <a:latin typeface="Times New Roman"/>
              </a:rPr>
              <a:t>DUR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33"/>
                </a:solidFill>
                <a:latin typeface="Times New Roman"/>
              </a:rPr>
              <a:t>AFT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Reading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05920" cy="5834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447920" y="220932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a MIND MA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838080" y="1066680"/>
          <a:ext cx="6857280" cy="15203160"/>
        </p:xfrm>
        <a:graphic>
          <a:graphicData uri="http://schemas.openxmlformats.org/drawingml/2006/table">
            <a:tbl>
              <a:tblPr/>
              <a:tblGrid>
                <a:gridCol w="6857280"/>
              </a:tblGrid>
              <a:tr h="152031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 marL="9144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 dis/agree with __ because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2" marL="9144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 like/dislike __ because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2" marL="9144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__ is/was important because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2" marL="9144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__ made me think about __ because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2" marL="9144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__ has changed my thinking because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1218960"/>
            <a:ext cx="716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entence Stem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106596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 . . is more strongly and consistently related to achievement than any other teaching behavior.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990720" y="1143000"/>
            <a:ext cx="693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cademic Feedback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Mr. Max and Mr. Tivnan, Planning a Lesson"/>
          <p:cNvPicPr/>
          <p:nvPr/>
        </p:nvPicPr>
        <p:blipFill>
          <a:blip r:embed="rId1"/>
          <a:stretch/>
        </p:blipFill>
        <p:spPr>
          <a:xfrm>
            <a:off x="685800" y="457200"/>
            <a:ext cx="7908840" cy="5932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1447560"/>
            <a:ext cx="716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ink/Write/Pair/Shar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47920" y="205704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Fishbowl Discuss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4400" y="281952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erson #1 will begin by reading one of his/her selected passages. S/he will mak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no commen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on the passage at that time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533160"/>
            <a:ext cx="7391520" cy="173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articipants are asked to read the article and to underline key passages as they are reading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80880" y="114300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ave the Last Wor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1220040"/>
            <a:ext cx="6248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odel the chosen thinking tasks by stopping to articulate what’s going on in your hea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47920" y="198072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What is Think Alou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47920" y="1523880"/>
            <a:ext cx="624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 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e 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ou 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1522080"/>
            <a:ext cx="6248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hat is Gradual Release of Responsibility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Malden Public Schools</cp:lastModifiedBy>
  <dcterms:modified xsi:type="dcterms:W3CDTF">2010-02-05T12:54:01Z</dcterms:modified>
  <cp:revision>72</cp:revision>
  <dc:subject/>
  <dc:title>Blank Jeopardy</dc:title>
</cp:coreProperties>
</file>