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E8B-53CD-40BF-9024-58AAD074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43B-E2FC-4F9E-8457-02FE780E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5D34-D5B5-4521-8BCE-CC2FA435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D09-CBCA-4035-B062-9AC001B9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B8F-B023-488B-912F-7DBA345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4CD-3221-48AE-888D-1FAEF8AC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ED6-1376-4FDC-8FDD-1541CB7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C60-D018-43A7-9A98-19B40DF9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763-E14A-4AFF-B57B-B1FEEE88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94D-6B86-486D-AE8D-9254CB57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E76-1514-4E14-80C2-B441094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695-C598-4BD6-BB9D-0DC47BC9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8D4E-0F1A-4DBA-A9FA-B89E0920B7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9A3-BF16-4E9E-8FC7-CEF4399CD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889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ess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41200"/>
            <a:ext cx="228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ff33"/>
                </a:solidFill>
                <a:latin typeface="Times New Roman"/>
              </a:rPr>
              <a:t>Comprehension  Symbo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-2556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Bef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Du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Af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Times New Roman"/>
              </a:rPr>
              <a:t>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355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5"/>
          <a:stretch/>
        </p:blipFill>
        <p:spPr>
          <a:xfrm>
            <a:off x="8686800" y="0"/>
            <a:ext cx="457200" cy="2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14372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mmarize key points so fa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dd your own thought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se clarifying ques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975600"/>
            <a:ext cx="807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ree-Minute Paus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792720"/>
            <a:ext cx="883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first activity of every lesson to activate, assess and build students’ background knowledg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152316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a Do Now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762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ast activity of every lesson to summarize and assess what has been learned and accomplished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 rot="967200">
            <a:off x="5366880" y="4336920"/>
            <a:ext cx="312444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3, 2,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4419720"/>
            <a:ext cx="31240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, 2,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75176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Closu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29528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t is employed before a lesson takes place, yet it is responsible for how the lesson looks and s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3712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lesson objecti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837720"/>
            <a:ext cx="8153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will you differentiate work given students’ varying strengths &amp; nee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ill you do to assess students’ progress, help them make mid-course corrections, and hold them accountable for good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12798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uided &amp; Independen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Frayer Model Template"/>
          <p:cNvPicPr/>
          <p:nvPr/>
        </p:nvPicPr>
        <p:blipFill>
          <a:blip r:embed="rId1"/>
          <a:stretch/>
        </p:blipFill>
        <p:spPr>
          <a:xfrm>
            <a:off x="990720" y="1219320"/>
            <a:ext cx="7467480" cy="37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447200"/>
            <a:ext cx="74674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roduce new cont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e.g., a reading, present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observation, probl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odel new skills, strategies o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3705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Direct Instru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33920" y="1447920"/>
            <a:ext cx="1981080" cy="289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90440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Don’t Understand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76720" y="1600200"/>
            <a:ext cx="27432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7514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Main Id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1143000"/>
            <a:ext cx="3657600" cy="2971800"/>
          </a:xfrm>
          <a:prstGeom prst="star5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3880" y="182844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Connec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1035720"/>
            <a:ext cx="6248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ff"/>
                </a:solidFill>
                <a:latin typeface="Times New Roman"/>
              </a:rPr>
              <a:t>+ +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06596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ar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upporting detail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1523160"/>
            <a:ext cx="573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the Frayer Model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554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lps students to monitor comprehension as they re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44684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purpose for co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-36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ent Response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1253" t="25004" r="30470" b="12502"/>
          <a:stretch/>
        </p:blipFill>
        <p:spPr>
          <a:xfrm>
            <a:off x="1981080" y="685800"/>
            <a:ext cx="4729320" cy="579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DURING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71600" y="152316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ummariz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1904760"/>
            <a:ext cx="624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Brainstor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3880" y="167544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Role Pla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142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OrangeOmerFishBowl.gif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01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59876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Construct 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raphic Organiz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761040"/>
            <a:ext cx="8001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BEFO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DU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Times New Roman"/>
              </a:rPr>
              <a:t>AF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Read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583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22093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a MIND M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38080" y="1066680"/>
          <a:ext cx="6857280" cy="15203160"/>
        </p:xfrm>
        <a:graphic>
          <a:graphicData uri="http://schemas.openxmlformats.org/drawingml/2006/table">
            <a:tbl>
              <a:tblPr/>
              <a:tblGrid>
                <a:gridCol w="6857280"/>
              </a:tblGrid>
              <a:tr h="152031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 dis/agree with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 like/dislike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is/was important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made me think about __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__ has changed my thinking because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121896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ntence St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06596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 . . is more strongly and consistently related to achievement than any other teaching behavior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90720" y="114300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cademic Feedbac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Mr. Max and Mr. Tivnan, Planning a Lesson"/>
          <p:cNvPicPr/>
          <p:nvPr/>
        </p:nvPicPr>
        <p:blipFill>
          <a:blip r:embed="rId1"/>
          <a:stretch/>
        </p:blipFill>
        <p:spPr>
          <a:xfrm>
            <a:off x="685800" y="457200"/>
            <a:ext cx="7908840" cy="593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44756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nk/Write/Pair/Sha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2057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ishbowl Discus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28195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son #1 will begin by reading one of his/her selected passages. S/he will mak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 comm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n the passage at that tim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33160"/>
            <a:ext cx="739152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icipants are asked to read the article and to underline key passages as they are reading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80880" y="114300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ve the Last W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1220040"/>
            <a:ext cx="624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del the chosen thinking tasks by stopping to articulate what’s going on in your hea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198072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What is Think Alou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152388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1522080"/>
            <a:ext cx="624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at is Gradual Release of Responsibilit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Malden Public Schools</cp:lastModifiedBy>
  <dcterms:modified xsi:type="dcterms:W3CDTF">2010-02-05T12:54:01Z</dcterms:modified>
  <cp:revision>72</cp:revision>
  <dc:subject/>
  <dc:title>Blank Jeopardy</dc:title>
</cp:coreProperties>
</file>